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media/image7.jpeg" ContentType="image/jpeg"/>
  <Override PartName="/ppt/media/image8.gif" ContentType="image/gif"/>
  <Override PartName="/ppt/media/start.wav" ContentType="audio/x-wav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1DE6-585F-4420-B574-633E526D05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ED66-2078-49D6-8DB6-0899F0E4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4383BB-0EB4-44A7-958C-13B6487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13141-AE66-4CBE-B600-3A17661E1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2F9DEB-3D5D-42DE-AEB8-1D583AEF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102A73-96B1-40C4-87ED-F31FD21F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617E26-EA66-4F3E-9EC9-6DC603AD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893E5-EF50-4B66-ACF5-9A18C787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43312F-FEED-4A4D-944A-37696BEA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6FE9B-94A7-4F9A-8724-0B3BAE6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8FB00B-B7E4-4948-8B89-E2CD438E48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3B1D-36A9-4F52-A1E8-C95DB111C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0D21D-D0F3-451C-B964-DA8A849D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8C510-274F-46CF-8807-500B008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5F5A7-05F1-4AF0-BCDA-6288C325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39469-4397-41EC-A6EA-636C818C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D347-D931-4714-B8FA-D37D1198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5030A-736C-43E6-83ED-66782BBC8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08E7-4922-46BF-BB5A-02091742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AA8B5-1D70-4452-B815-ACB7E6F8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A23C4-378F-4237-9630-CB3AB39E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E9428-0864-4182-BEF5-BC05D8E5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62216-B406-42A3-B1FD-B367C1E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5FEB-1600-4B46-A023-78EBEF75D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2EE74-D941-4323-A931-C46CD1F72D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97ED88-041E-4258-BDE4-D6736387EA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63B4D2-8A87-4DD7-B948-6536653A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90F6D-A992-4D97-B59D-C671C880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EBB06A-A820-49FD-85BF-01D5FFF3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3B4714-C922-4B33-A004-9B6FF20C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89E3E2-7CFC-435A-BDEF-2E6AC056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7F0EF1-A33A-4D4A-A1AF-61D51A4B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025E63-2A2B-4302-97EE-B1B36D0B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8073B4-EA87-4110-9C09-F28B62C8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6CB4-025E-446E-89C4-EE0B4FFF49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6A0BE7-7B88-422A-BFF6-E67FA5D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2448E-A1E3-4974-8064-A9F59283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44FE3-3041-43F3-AE4A-8806544ED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E1A9B7-06B3-4D87-8F8F-0C99A0CC33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988B5-5E5E-43ED-BF5D-6E848916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5F5EC4-09DB-4D0A-92A8-D7AF139E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DB728-6710-479F-B86B-66761A44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39EBB-BB1E-480E-B53C-56648001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6D694-7FE8-4ED8-9B5E-90233CDF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932B44-1CAB-4ADF-98AF-DFE6E10E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1918-6C49-4DD2-96D5-C693FB71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ACD8BD-EDCF-4AB5-98F2-62A762BC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8D8BB-D456-425E-A5CC-D96D4463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35C2D6-D2BA-4FDE-AE7C-9B6D42E0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9E78-9FA9-48B6-9700-13D93BD6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FF75FA-1C96-4B38-A775-134649AB83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00EC1-F2B6-4F5E-B236-840939CE7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8F1E7-2652-4D01-B469-CC297400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FCFB9B-313F-4CA1-AE96-14AA9A63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7609-4DD1-4847-B0F6-13CE9608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604DA-7226-48A6-91FE-1DE1A126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D02CF-59BF-4FB5-8FD7-27522BEA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9DEC5-F5FE-468D-A542-FA1B2E9E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E33C0-5FED-4F1C-9467-63828186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A3BA0-0305-4DEF-890A-2C8CC84A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FF224-7F4B-4408-A516-36BFFDD5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4DB7A-6DAA-4281-B612-DBDDCD25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90CF1-1957-45DE-8F71-7F83DE7D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3E554-78C6-4EB8-92E7-6626451341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71BF4-E622-489C-A9D9-F57A9324EA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BCFEFB-46A4-4AF4-9305-36919347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CBE3A3-A5F3-4ABC-81A1-779D929D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04E08-1D56-43A6-B4DF-7F6FBED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7EF1E5-9448-46C4-8E5F-E350D993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7BA957-3126-4692-91AA-62E5CDD5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C61077-2F46-462D-BCAF-0CB4D233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B73A5B-87DC-45D1-AC8C-BB713F6C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7DE977-E0E8-49E5-9A2D-13D5A302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29CA04-A786-4259-8347-A51F5238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2E9BAE-CC74-419C-BFF8-5CA42BE1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3289AB-23E4-4C99-9DC4-6B09A3E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7D7CA4-83EA-4296-9948-FA3C767A5C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B5C804-9A9F-4A5C-8AE0-485CA5A015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BC57EA-C4E4-4F45-857D-0732F99E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AC5D5A-687B-475C-B4C7-4F51DB5E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6076AF-57DA-4E6B-9A53-2B684012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4273E6-820D-421F-8E55-27859F7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E0A48A-E757-48C8-869C-33441E55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867F51-E39C-4BF3-B269-C163E93E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38FC15-A846-4EEF-91FF-C76827A6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6DC439-3C94-4AFF-A7BE-DF9D5F22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3E1CCC-2E12-483F-BD99-F4E73CCC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DB547C-EB7A-4B61-80E7-75BF9B2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0A756A-E93B-4D24-A8B3-0E4B9E0A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4A95-AA8C-4960-A976-B0BA8F70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B8B5B5-4EE9-4132-BCCE-CA415E1EB4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852EB-120C-4F2A-BA79-6AA6373807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11FB2-709B-458C-B54F-3A3800D2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79A19-77E7-466D-A34E-EE47F298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7B70D-272B-4147-99D6-8640CA8A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A9361-C662-49AF-9815-AAF5A9341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6226A-0859-45EE-9D9B-3628DE41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EDED0D-266B-4879-93A4-2C7D2A2B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C1DBA7-7874-4392-868E-95A291E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3EA25-37FD-49CA-AAD4-7BA7F9F5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7D9EE-BD83-4BF8-BC34-8CC8D92F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13A42-856A-42BE-8838-66FCAED1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E7EB5-19AC-4119-8396-B7E1304A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53FD7-FFA4-4752-8F71-F670B53EE3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BD2FAC-4D40-4BBE-8588-213F3C8C22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FBC981-B62D-4E6C-B7B2-FACC52B7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FFA14C-9155-44D8-8BAA-0750232E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F05672-F4BB-4970-8FF5-B5B2FBB6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C461A-1D06-44EA-982A-8AA1176B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F5CCFA-C5A6-48B6-B682-39C5DE07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C98B5E-B1F0-46F6-97B3-5B81F325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F9FE4-ABC7-4B46-B672-2B2DF60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9D617-3801-422C-AEB3-26478812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5635DD-84F8-468E-8EEA-A220A8BD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A102A1-4D21-43D9-BDEB-3EB861A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FD4531-DA0D-44B1-8C3B-D9468173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1FD675D-57FE-4C5E-B88E-B1E76CB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AE2924-A7CC-4D52-9A86-299830511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39BBE1-4DE5-4623-AE39-6E685ACC35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0864CD-BE31-49B4-A9DA-A7FBBD0C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06734F-EF1A-4D90-8677-954460FA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B17FD20-4AEC-4A70-90FB-5D4C5A47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B96F5C-9BE6-42C0-AF2C-DE58E653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E6C47-8020-435A-B3D6-5F3ED302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AB3C9A-CE64-4619-8C9B-72BDF0EC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C793EC-AD6C-4FD1-B255-2C6A967EA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F2E969-2176-4D45-A789-9BBA9370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265D56-0ACB-4B1D-87E7-1AEB236B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8C4B90E-A648-4F2B-A94B-61F71E02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CA78FD-0B67-42C1-98F5-40C7A5F7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A5627C-5615-4D1A-A92C-8056203269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AD74A-9B70-4B8F-B2A7-31E864432B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9CBFB2-9C3D-4D8C-B405-204CC47C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DCDE43-B1AD-4947-B6C0-04B2D8B8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239AC-0473-4061-AE97-6224720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2E2B1-9181-4EF6-8C2F-81D88745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25112-E022-420B-9945-656499D3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A76D1-DC2A-415F-AD0B-0A390534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2612B-C7D9-4CF1-AB6F-1BD3DB2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D9B18-1506-438E-8568-CAD3409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4E273-2EF9-4A97-8A4A-09A3565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3C36D-F405-4811-8BE4-A042C4E2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ED51B-BB30-41FF-8C30-FA59E786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C60D1-6B17-4F08-A91B-63F137FC6B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00FBE6-5368-4193-A87B-9748132A66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1326F-A8A0-4E74-9AF9-B150C32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B1D3BD-FFAC-4CB7-A3F3-D1E0A4E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738D13-E157-4D0A-887C-6C61FE1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B14596-801B-411A-AC50-29F7A391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E6B0B0-48E2-4190-811E-4030B428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976DC7-AAD1-49D9-BCFB-76117B4C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9D6D45-F2EE-4EF4-98D4-158A1BB9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19DA2A-D085-45C3-9C00-16CCA461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B8E72D-DD78-4EE7-9942-E93FFAA0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EA258A5-3535-4887-A03F-77440FB2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1F258C-901B-4D99-8EB4-2F2E7D1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D4575-7D40-49CA-B836-FEBDBFA3D4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3BB67C0-7720-4857-970E-4B06C8AD4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0B4F62-520A-4700-84A0-1F368FD6F9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C5D0D6-C656-4CA9-A25E-597B064F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4806F2-863E-420F-887A-F0DD61BE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277950-6DDB-4354-A89A-B7935B0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5E6944-9B91-4339-93BD-35AA196B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1F2537-3A5C-48C6-9B5D-2441CAA2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65BB588-9D32-48B3-A932-16DFED4B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051B24-D08C-4DBB-93FF-962BA174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64F6F9-4D4A-4703-ADA8-B184DA0D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AB9FDE-60C1-44EC-A1B2-6611E598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CD321E-C3BF-407F-BF5E-4A6ED9CF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3797AA-6345-41E4-8F05-1CB9FEF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1E796F-716C-4881-96CE-C6D0B1D6CE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AE3A1C-0F41-4952-9D72-02CBF0DC38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9AF411-47EA-4292-8EC2-AA4CA77E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C409A-3175-4D4F-ADFC-867D7AB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86246-DB92-40AC-BECD-DABC0858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3FB4DC-9C45-414E-9165-1FE1161D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73C31-0247-4E7E-A828-AB37C332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7995F-9435-4176-AD73-B0A969A1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47AAE8-9E73-4C4D-864C-E805A259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5E9FA-44C3-4E22-B906-9FADDEA0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88F9AE-6E16-4FE3-9632-ADD339F7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4F472E-F6D1-4D91-B86F-98088CD3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A414EF-A4E1-4543-B228-51972578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5E6BE-E134-43F0-B242-2ED06E1929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B2602C-0F99-464A-8D22-08B6781D4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E91FF1-AA65-44D5-B6FA-C944F9AF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12B3ED-765F-4525-A5A7-F8AB4BD0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7191DB-7807-4AE4-9E25-53AD40C8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01A64A8-2663-4BA3-9C88-8C70CE77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E9656-2C31-4909-83C4-02B9CBF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E32C2A-74EC-49BF-AD1F-06DC96B1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831E864-AA7F-4F25-8D9B-F5668654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66D7AD-FB57-458A-A309-56A3F0CE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68D3598-BF18-4483-9118-D7782B62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43D29C8-BEE2-4E17-B709-D66DEB37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D4255A-C5DC-4A7C-BEF5-727F508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4EA275-61D9-45F4-A4D8-C80A1BEBF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95013C8-031B-4808-89FF-27F487DAA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CBB807-4686-4B69-8A8D-C949534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A73790-893D-4379-94D3-2E92E325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B506EB-A486-4212-98D9-C4551592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426C2C8-EBCA-4827-B077-D6DF9D76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184D84-D6E7-4379-84F4-BEDDD988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05AF67-2A25-482F-A6F4-B5594A10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D172A6-9212-441D-817B-B83F6101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3DC912E-4BC5-4CCF-B3FA-7254AAA4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E22D7CB-E75A-490B-98FB-A7D48E42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9B7FA2-7A90-4041-BB3C-F7DA9826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4F6C1B-50C2-49E3-93AE-2D88D06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2C28B2-B789-4A00-84DD-67EB57D2F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AAB02-6CA1-4017-9909-12B3E0BEBA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E9C5C9-2B90-4B31-ACC2-9A811E53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0608EC-5116-4F5A-9726-B14CDD1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D1C366-0845-4C89-8DBD-12A9870E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41D8BD-31CF-4702-81ED-1429D180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16F8B-F7A1-4A5B-9DA3-109F78EA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6A8628-3FB9-4A6C-A87A-7A0C4455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5987E8-1E1E-4F0C-B314-1F4FE405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B5F62-DA75-44E5-9E74-679FBF27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F4597-2805-4494-8C91-49AD1B61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00EDD2-8234-461A-8BE7-139736AB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FCE2F-BBBE-413F-8792-E4250AA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BED77-EDA0-4AAA-88D6-3A369CB9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E68A09-5A04-41F7-8D76-2BA6D025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4580A-93DC-4472-AB8A-5EEF6D8C92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6146A-1965-4FA9-A382-6B3B8A0D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D2C2A-F23B-4022-9969-924659CD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C63404-2399-49A8-BA19-64AEBFF9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4AF1A2-1456-4AE0-97F3-60D680CA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95ACBB-DBE9-412E-AD76-379D6F31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F4678-1896-4044-8202-037E4953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0E900-BBB8-459A-8CEA-F9BE28F2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89F5A-B969-4EA3-8354-591016AB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DDD2B-A575-4CBC-B596-6342AF3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B0BEFE-BDD5-4DC1-8CB2-0C0063D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C69851-5799-46D9-940B-C3874281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F01E5-58E0-43B5-BA7B-52A6F69C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29C96-5ADF-4E7C-B755-737C32AF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D334BE-4433-46BE-8A79-23B19D12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A2070-A875-4DA5-A8B9-8C83F246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A375BD-7D5B-4F15-9D84-E9ACB927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A1183-56EA-4BB9-8BBA-BBFD7289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021BF0-4EE5-43C6-85A5-D770FD37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68C56D-D7C8-4CE9-AC66-BF57E4A6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7B099E-8F38-4D7F-B271-F8D5947E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471BB2-56DA-4D39-BF8E-436ED457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0DBEE-389B-4A98-9C19-22C4D81D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E9819-9DC0-412F-8BFD-4F110F83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87822D-A8C8-4EE3-BCF2-4358C581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2CBD4-F9ED-440B-9FA0-194C48F2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6CBC0-DD07-45F4-B634-4F7EC6BD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911101-B747-47A5-BF0B-639FFEE8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E9DFA3-C07E-4F71-A12E-D1923343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6FF7FC-3CAD-4476-B3F4-0B70381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22EC6-430F-43A7-A975-1BA2081F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5C148-0EEE-4913-B385-DF3EBA56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48851E-E373-4516-BE06-282ED02C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CDB6D-8FAF-4B68-87BB-8EB006E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611EA6-F424-445C-A7DF-A9FD405D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DAE3C-A7D1-4051-B78B-9584A87F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3D6804-E7D2-477A-A4D3-06B9BC6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22C28B-B356-4F53-BB7C-8D326798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993601-453A-43DB-B6E4-1C76F317A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1BE0C-9FF2-4602-BF26-89276F60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108FC3-18B2-494E-91F5-A879735E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F65A9B-54A7-45DA-8F16-7F5D701D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9F9CB2-5554-479C-91A7-8EB39FF3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915CE3-A907-4F18-9256-527C688A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60EB2E-6447-4D7D-A40F-E24CA2F8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041707-7A4A-43AF-ABC3-7D2ACCD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FF44F-E6F1-4D0A-9443-EF4327E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B2FFC6-6A3F-44DB-83C2-8C889D1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84BB06-ABC0-435A-A626-1724004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0C9B7E-6AB0-480C-BF4A-0B38698C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2450DE-7D7C-4581-8AD7-C0F0895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DC1A77-07A0-412A-BD33-E01C0428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C2F46-100C-4A2B-A05E-B55881BD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61926D-3125-452B-8CB5-DFA0E4DF1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6924AA-90D0-405F-927E-A3A0AB50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553C31-CFCD-42A5-BA85-DE3B4839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9D5CE8-A131-4A00-895C-D6591CD5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56E74B-D3E3-448C-AC70-143B6055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BC7E95-5946-42F6-9F6F-93DEFF88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50ED47-06CB-481F-8CB9-BDFA003F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3CA06-24C8-4967-A0D9-383BB741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C0C9F3-C2B7-4A88-B926-CD80E4B8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C33919-5976-4E20-A266-62AD08DB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3F024-FB8B-45DF-B0A0-83522AE7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3F415B-D4ED-4BD0-8D1D-1F20A9E6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29199-A614-472C-9314-CB987BF1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E1B28E-74B8-4032-A812-FB4BD72FF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9E859-6A47-40C0-AC19-EA9E9120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5D9249-ADDA-464A-B518-FC3CA2B5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47FA13-6851-4C16-9315-D28797F7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51EE49-A180-4410-8F24-E1D5C1D1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907DE4-2092-4E92-908B-DE567C06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A0F826-92AC-4432-8718-7325D496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D9F4C-2E2E-4972-9F25-C0C0017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F45E79-4712-4C63-ABC4-9A11F98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DA4C6-4634-4A15-885A-90C4E19D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9ABE-DF3E-46AE-A6CD-12F8425043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E80137-F1B5-4B93-BA31-C2C6AD61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E49128-EDE6-46A8-A631-2C49C32F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3B0465-4AFB-422D-A803-30CD1C43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E91D3E-EAAC-4DEE-831C-5581E2BB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69595A-EDF0-4A9A-9AEF-C3B0E48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EA6F0C-4855-4101-B38E-20E61D36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747D8-C3A2-42EC-B110-62C75DC7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265EBE-6915-4FA9-9769-03838291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B7A0D2-8C43-4B8B-8E68-BF746AE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98F60-E715-44CE-83D6-7A8E9597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D20F4-C0B9-476A-8479-27CDE876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A9ABCE-7D47-4EAD-BEC6-B7D6B18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04F84-EFA9-4C73-AAF9-D7C33BA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4221A6-3357-4395-A696-8F9FC07A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B09834-0940-4D0B-9238-C12F43F28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1133D7-600D-4D9F-A32A-907F3E03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D308CE-4CA1-4CA4-AA97-6BF96DFE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61F3BB-D3A9-419A-BEC9-1565D614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BC354E-3878-4E59-9CEA-7A25173D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4C207E-4B96-455E-BD8F-8C9823A3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85BB85-D96B-4F71-90AF-5FF46841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640D-DE06-407B-AD91-A803CD62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2261A3-12F6-461C-BE98-339DD754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A76AE2-25E8-4221-931A-F698E10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55B7A20-DE83-4E94-8D54-0BB59088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6FA0E0-53FC-46ED-94E3-8C5D025A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E9F314-1FD9-492C-B6D6-CA4ADA2F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A3C24F-2E2F-4E6E-BB5B-2C258D8D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EC09D9-2317-485D-A6E0-27FA85DF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F01B8AA-3E74-4CDA-9D21-F86B8024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6E98FC-BE90-4DF2-BF59-B44AB296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5C1FB5-0733-44DE-BF8E-FCC38C10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88C19-7DB5-466C-BE64-97CFE8F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080AE-06B6-44D2-8ED0-46BD68EB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C66939F-4AE6-4972-9A9C-E4476F70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949774-9DDC-4C8C-A209-A3AA37EA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B40B43-9DCA-46B3-A6A0-FB8ED016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7AD329-F22C-45B3-8448-A2AA5CFE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F5D0CE-B65E-4FCA-8F12-0ACDE250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4AE5EA-8241-4D25-BB89-DB631FD1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0DA709-50CD-45D9-A569-B4F84A82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90FBC9-F054-4451-A378-B96D8A69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51C467-444F-4D74-A174-17F50DCF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83808B-B661-46EE-B4DC-C63FF7DD4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00A54-1CE3-4484-B660-62B308CC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41A113-9FA0-408B-80F6-D5D59795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7C64354-2DE7-473E-AC6F-DDE94E1F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57FF1D-0509-4B36-BC64-BA6EB877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C078A2-F8CE-4AF7-A824-29C44185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FF7E39-6740-4F8A-BC48-CAC702D6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35AE15-4B4E-4DAA-B2C3-74DB9609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2FA6A8-2E98-48C7-8F6D-8831907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5F708C-C542-4B60-8786-C73A0BEA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C36503-3BBA-4F50-BB80-634C4662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B1CDE5-F66A-4E94-969C-2C1F18D6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1FA2-D666-421B-85DA-001FA634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B3D7E-A5C0-4A18-A962-6AAF9717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6F03EA-134E-4FD3-ABA8-616BEE56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EDAAD0-362B-4906-8DA6-CB3D28D2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1282A8-C5F1-46D4-A7F0-621F47D7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55454F-911E-4BB0-B2A6-D17239E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2507F5-DE79-4E79-A760-719703D3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ED40A3E-43D2-4C5F-B21C-C014DC4C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ACADF1-4294-4C4F-938A-1C487C93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3ACF8B-0379-4BDB-B9DF-902B022F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9E3FD9-A434-492D-AF86-D361DE1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A4B85-BAC3-42C1-B046-32309A0F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7189FE-0668-4F32-98FB-FC861C36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30DDBD-104A-4A0A-B489-E33DDA27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636CD1-C295-4837-9E22-863F9CED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43D0A-DA34-4B1D-93C8-5FCC5C0D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9DB19-F4A7-42AF-BACF-FA7F2DDD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35857-1130-4D8B-AD4B-010ACFBA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F0CB-8275-4E77-86A6-6900C70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FE35-94AA-4189-8974-E0221FE7B7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10646-A5B3-44B1-88EC-E370F48990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ECEB-4448-4AC6-93AC-C0FCCCC0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2815D2-8D00-4B92-B5CC-3C4FACEE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23936E-59CA-4B01-B5B5-C304F92F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78556-F19F-438B-9E2E-2129DB76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40133-A73B-41E8-847A-0F2D2E9F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00344C-DE23-4215-8B1F-DA1321AA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D2A6E-9C19-43AD-999B-9B62131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150A0-4441-4551-BEA6-77423062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C0383-65A1-4AF6-99B5-B2E3A888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0A9D9E-1204-461D-8807-D876F289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A6655-94FC-4187-ADBB-819353B8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1D15-6F46-4B75-9D74-1820FAF3E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0E2FC7-9BEA-4E22-A98F-7041FB3B9B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27BC1F-6178-4F4C-8205-7828AF68C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C403A-3CC7-4069-9D87-466C66B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8AFC76-A441-4E91-B62D-11922BB5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6B63B2-2C69-4846-B837-998E955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F05C82-5C13-45B6-92FB-E96BB1E3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76036D-19D4-4570-8E63-725FB407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A4AF6-EF75-46B1-B3C7-10468AA4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837907-0017-4C09-86F3-0BFF35DE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BDAFD3-B7A4-488B-81A3-CE96153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C103-41F0-496A-AB9D-808CADFB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1CC46-E09B-403B-89CE-7BD3BC3B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B71C44-FA50-4581-B482-5595120A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B1F7D8-1062-48CE-9DBA-6AB4AA7A7D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71E91-8831-4F1B-A888-88485126FE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17A5E-BAC4-44AD-9A52-3AAF1256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09281-BEEA-449C-AB40-DE4F75E8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756B-7ABC-4E76-83E4-8633990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AC18E-557E-46A1-85B4-D891F88C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A359A-FC8E-4C66-A7BE-08A35978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6A481-1752-4660-A796-36B6A6EB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79E82-0A32-439A-85FE-6F3775B4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B7A5-B496-422C-9830-7C2A99D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9C36-03C5-4D95-BAC9-E14E057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FB660-B4CE-4B52-9FD8-38446E9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DAF17-7B0C-464E-B185-49DF35B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3D60B-9BF9-4B9A-B152-F045AFB91B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234143-D246-44C1-B21C-8A76BDBEC5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C3856-80B8-4FD1-87AD-AABE0F76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FE72A0-B3C0-4D77-ABDF-DD57143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10C35-0DA3-4CF4-B991-9596146A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9C43F-6983-4E5A-8894-136BD24E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F7E2B-C675-49AB-8238-0F19C4E5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AEDCE3-8C5F-4747-B551-5147BDD7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CE7C7-02E7-45B6-BD03-B05FA755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3C3CD0-C338-4AB6-9324-A1C8BF46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A9D36A-1388-453C-AA31-FEA9331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ACF11D-2CF0-4442-988D-AD2533DD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D01DD-2B87-48ED-A85E-AFA70A1C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27263-93F7-4CA2-9232-F6A0B7D3F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A73E57-D7AF-4ABD-8FA7-A0EAB537E8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93AD8-0BC3-4D8D-BA18-49595B9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7BE173-06F6-481E-80D4-01F53BE6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867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867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867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867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867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867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867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EE2BE-58A7-4F90-97A4-C5C93AB919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7703-43E8-40D9-8323-36AAD156B2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C60F-2617-4CFA-A766-F5764D828B0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DFC8-DE19-478B-A113-84A37422079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EC4-3D6C-4012-A2C8-ACC838A1084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EDD0-9934-4109-A2C7-00FED87D71A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763-FFAB-4963-8AEB-749995C2598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FBD-3A12-4384-8948-6CBC444C914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6E6-E251-4638-9D75-E505C824CFF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D10A-7D42-498B-9203-67E3A406919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514-EA20-4119-A5E6-2CD7D911742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9AF-C3EF-4E45-916F-151E65781B53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DAB1-854E-419C-BB64-261A2FDCAF3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1134-A922-4C24-81D4-EFC3762D61B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A29-847A-4E0B-8A6A-C3FE38CDF66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973B-8CCF-41A7-A0BE-D5936671B0D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44C-0D12-40E2-8008-479D4EB9FBF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4F1-39DD-428E-B1C4-5F993707EBEC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E5E8-CE3C-4E2E-B7F6-327861BA246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32F6-B84F-4DFA-B3D5-6853FAF4945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C1F-60B0-44CE-B9BA-2E55C88B281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B0E-B643-4C88-8955-984D37A3BE1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9E3E-8EC9-4CC0-A7F4-F34996E477BD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2DF8-8E4A-4852-98E2-540DEE05205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0741-458E-4A18-894C-D18540F72375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ACA-425E-434E-9C72-DCE96A35E5EE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8F0D-2097-49EA-9589-AAE59400CB7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7E4-41F0-4843-9B75-89916EF1C051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CBD-7DF3-4E4B-953F-C7F2A62098F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ED1B-906D-4FF6-AED1-C1F3B805705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969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2969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2969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2970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2970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2970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2970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5964-A0A8-4F5A-9AD6-198B61267BF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3D4-608A-4513-8590-026A7AF6FFD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4426-8B49-4EFB-A2BE-1BCC2F2F3C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284C-5D6E-4F38-A58E-8B10A053130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65CA-8F8A-40A5-B072-917AEE07034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5C66-557B-45D1-AA67-0582BEFB1AF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image" Target="../media/image6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457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457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62064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位置与方向（二）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395280" y="1773360"/>
            <a:ext cx="5616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方向和距离，在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上绘出物体的位置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情境引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26"/>
          <p:cNvSpPr/>
          <p:nvPr/>
        </p:nvSpPr>
        <p:spPr>
          <a:xfrm>
            <a:off x="785880" y="5655240"/>
            <a:ext cx="393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知道了什么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6" name="图片 19459" descr="23"/>
          <p:cNvPicPr/>
          <p:nvPr/>
        </p:nvPicPr>
        <p:blipFill>
          <a:blip r:embed="rId1"/>
          <a:stretch/>
        </p:blipFill>
        <p:spPr>
          <a:xfrm>
            <a:off x="395280" y="1450800"/>
            <a:ext cx="4896000" cy="3256200"/>
          </a:xfrm>
          <a:prstGeom prst="rect">
            <a:avLst/>
          </a:prstGeom>
          <a:ln w="0">
            <a:noFill/>
          </a:ln>
        </p:spPr>
      </p:pic>
      <p:sp>
        <p:nvSpPr>
          <p:cNvPr id="1487" name="矩形 19460"/>
          <p:cNvSpPr/>
          <p:nvPr/>
        </p:nvSpPr>
        <p:spPr>
          <a:xfrm>
            <a:off x="5364000" y="148428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位于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北偏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 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、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距离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在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正北方， 距离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请你在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图中标出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、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的位置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19461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9" name="矩形 19462"/>
          <p:cNvSpPr/>
          <p:nvPr/>
        </p:nvSpPr>
        <p:spPr>
          <a:xfrm>
            <a:off x="725472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组合 20481"/>
          <p:cNvGrpSpPr/>
          <p:nvPr/>
        </p:nvGrpSpPr>
        <p:grpSpPr>
          <a:xfrm>
            <a:off x="1320840" y="2752560"/>
            <a:ext cx="912240" cy="732960"/>
            <a:chOff x="1320840" y="2752560"/>
            <a:chExt cx="912240" cy="732960"/>
          </a:xfrm>
        </p:grpSpPr>
        <p:grpSp>
          <p:nvGrpSpPr>
            <p:cNvPr id="1491" name="组合 20482"/>
            <p:cNvGrpSpPr/>
            <p:nvPr/>
          </p:nvGrpSpPr>
          <p:grpSpPr>
            <a:xfrm>
              <a:off x="1320840" y="2752560"/>
              <a:ext cx="912240" cy="732960"/>
              <a:chOff x="1320840" y="2752560"/>
              <a:chExt cx="912240" cy="732960"/>
            </a:xfrm>
          </p:grpSpPr>
          <p:sp>
            <p:nvSpPr>
              <p:cNvPr id="1492" name="文本框 20483"/>
              <p:cNvSpPr/>
              <p:nvPr/>
            </p:nvSpPr>
            <p:spPr>
              <a:xfrm>
                <a:off x="1320840" y="2752560"/>
                <a:ext cx="72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B</a:t>
                </a: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3" name="直接连接符 20484"/>
              <p:cNvSpPr/>
              <p:nvPr/>
            </p:nvSpPr>
            <p:spPr>
              <a:xfrm flipH="1">
                <a:off x="2044080" y="3139920"/>
                <a:ext cx="61560" cy="3564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4" name="直接连接符 20485"/>
              <p:cNvSpPr/>
              <p:nvPr/>
            </p:nvSpPr>
            <p:spPr>
              <a:xfrm flipH="1" flipV="1">
                <a:off x="2053080" y="3173400"/>
                <a:ext cx="180000" cy="312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5" name="直接连接符 20486"/>
              <p:cNvSpPr/>
              <p:nvPr/>
            </p:nvSpPr>
            <p:spPr>
              <a:xfrm flipH="1" flipV="1">
                <a:off x="1840320" y="2800800"/>
                <a:ext cx="208080" cy="3657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496" name="椭圆 20487"/>
            <p:cNvSpPr/>
            <p:nvPr/>
          </p:nvSpPr>
          <p:spPr>
            <a:xfrm>
              <a:off x="1825560" y="2789280"/>
              <a:ext cx="7236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7" name="Rectangle 26"/>
          <p:cNvSpPr/>
          <p:nvPr/>
        </p:nvSpPr>
        <p:spPr>
          <a:xfrm>
            <a:off x="4067280" y="1785960"/>
            <a:ext cx="511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北偏西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°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是什么意思呢？请你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下面这幅图中画出这个方向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Rectangle 26"/>
          <p:cNvSpPr/>
          <p:nvPr/>
        </p:nvSpPr>
        <p:spPr>
          <a:xfrm>
            <a:off x="4605480" y="2594520"/>
            <a:ext cx="3929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说说你是怎样画的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Rectangle 26"/>
          <p:cNvSpPr/>
          <p:nvPr/>
        </p:nvSpPr>
        <p:spPr>
          <a:xfrm>
            <a:off x="4605480" y="2976480"/>
            <a:ext cx="4349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要想确定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的位置，还需要什么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条件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Rectangle 26"/>
          <p:cNvSpPr/>
          <p:nvPr/>
        </p:nvSpPr>
        <p:spPr>
          <a:xfrm>
            <a:off x="4622760" y="3775680"/>
            <a:ext cx="3929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怎样表示距离呢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Rectangle 26"/>
          <p:cNvSpPr/>
          <p:nvPr/>
        </p:nvSpPr>
        <p:spPr>
          <a:xfrm>
            <a:off x="4619520" y="4229280"/>
            <a:ext cx="3929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图上的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cm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表示什么意思？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2" name="Rectangle 26"/>
          <p:cNvSpPr/>
          <p:nvPr/>
        </p:nvSpPr>
        <p:spPr>
          <a:xfrm>
            <a:off x="4614840" y="4662720"/>
            <a:ext cx="3929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6. 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图上标出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B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的具体位置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二、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4" name="组合 20495"/>
          <p:cNvGrpSpPr/>
          <p:nvPr/>
        </p:nvGrpSpPr>
        <p:grpSpPr>
          <a:xfrm>
            <a:off x="387360" y="1557360"/>
            <a:ext cx="3968640" cy="3815640"/>
            <a:chOff x="387360" y="1557360"/>
            <a:chExt cx="3968640" cy="3815640"/>
          </a:xfrm>
        </p:grpSpPr>
        <p:sp>
          <p:nvSpPr>
            <p:cNvPr id="1505" name="文本框 20496"/>
            <p:cNvSpPr/>
            <p:nvPr/>
          </p:nvSpPr>
          <p:spPr>
            <a:xfrm>
              <a:off x="2476440" y="39081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00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06" name="组合 20497"/>
            <p:cNvGrpSpPr/>
            <p:nvPr/>
          </p:nvGrpSpPr>
          <p:grpSpPr>
            <a:xfrm>
              <a:off x="387360" y="1557360"/>
              <a:ext cx="3968640" cy="3815640"/>
              <a:chOff x="387360" y="1557360"/>
              <a:chExt cx="3968640" cy="3815640"/>
            </a:xfrm>
          </p:grpSpPr>
          <p:grpSp>
            <p:nvGrpSpPr>
              <p:cNvPr id="1507" name="组合 20498"/>
              <p:cNvGrpSpPr/>
              <p:nvPr/>
            </p:nvGrpSpPr>
            <p:grpSpPr>
              <a:xfrm>
                <a:off x="387360" y="1557360"/>
                <a:ext cx="3968640" cy="3815640"/>
                <a:chOff x="387360" y="1557360"/>
                <a:chExt cx="3968640" cy="3815640"/>
              </a:xfrm>
            </p:grpSpPr>
            <p:grpSp>
              <p:nvGrpSpPr>
                <p:cNvPr id="1508" name="组合 20499"/>
                <p:cNvGrpSpPr/>
                <p:nvPr/>
              </p:nvGrpSpPr>
              <p:grpSpPr>
                <a:xfrm>
                  <a:off x="2867400" y="3767400"/>
                  <a:ext cx="312120" cy="245520"/>
                  <a:chOff x="2867400" y="3767400"/>
                  <a:chExt cx="312120" cy="245520"/>
                </a:xfrm>
              </p:grpSpPr>
              <p:sp>
                <p:nvSpPr>
                  <p:cNvPr id="1509" name="直接连接符 20500"/>
                  <p:cNvSpPr/>
                  <p:nvPr/>
                </p:nvSpPr>
                <p:spPr>
                  <a:xfrm>
                    <a:off x="2867400" y="3832560"/>
                    <a:ext cx="312120" cy="180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10" name="直接连接符 20501"/>
                  <p:cNvSpPr/>
                  <p:nvPr/>
                </p:nvSpPr>
                <p:spPr>
                  <a:xfrm flipV="1">
                    <a:off x="2877120" y="3767400"/>
                    <a:ext cx="36360" cy="62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11" name="组合 20502"/>
                <p:cNvGrpSpPr/>
                <p:nvPr/>
              </p:nvGrpSpPr>
              <p:grpSpPr>
                <a:xfrm>
                  <a:off x="387360" y="1557360"/>
                  <a:ext cx="3968640" cy="3815640"/>
                  <a:chOff x="387360" y="1557360"/>
                  <a:chExt cx="3968640" cy="3815640"/>
                </a:xfrm>
              </p:grpSpPr>
              <p:grpSp>
                <p:nvGrpSpPr>
                  <p:cNvPr id="1512" name="组合 20503"/>
                  <p:cNvGrpSpPr/>
                  <p:nvPr/>
                </p:nvGrpSpPr>
                <p:grpSpPr>
                  <a:xfrm>
                    <a:off x="3173760" y="3939840"/>
                    <a:ext cx="312120" cy="246240"/>
                    <a:chOff x="3173760" y="3939840"/>
                    <a:chExt cx="312120" cy="246240"/>
                  </a:xfrm>
                </p:grpSpPr>
                <p:sp>
                  <p:nvSpPr>
                    <p:cNvPr id="1513" name="直接连接符 20504"/>
                    <p:cNvSpPr/>
                    <p:nvPr/>
                  </p:nvSpPr>
                  <p:spPr>
                    <a:xfrm>
                      <a:off x="3173760" y="400572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14" name="直接连接符 20505"/>
                    <p:cNvSpPr/>
                    <p:nvPr/>
                  </p:nvSpPr>
                  <p:spPr>
                    <a:xfrm flipV="1">
                      <a:off x="3183840" y="393984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组合 20506"/>
                  <p:cNvGrpSpPr/>
                  <p:nvPr/>
                </p:nvGrpSpPr>
                <p:grpSpPr>
                  <a:xfrm>
                    <a:off x="3486240" y="4117680"/>
                    <a:ext cx="312120" cy="246240"/>
                    <a:chOff x="3486240" y="4117680"/>
                    <a:chExt cx="312120" cy="246240"/>
                  </a:xfrm>
                </p:grpSpPr>
                <p:sp>
                  <p:nvSpPr>
                    <p:cNvPr id="1516" name="直接连接符 20507"/>
                    <p:cNvSpPr/>
                    <p:nvPr/>
                  </p:nvSpPr>
                  <p:spPr>
                    <a:xfrm>
                      <a:off x="3486240" y="418356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17" name="直接连接符 20508"/>
                    <p:cNvSpPr/>
                    <p:nvPr/>
                  </p:nvSpPr>
                  <p:spPr>
                    <a:xfrm flipV="1">
                      <a:off x="3496320" y="411768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组合 20509"/>
                  <p:cNvGrpSpPr/>
                  <p:nvPr/>
                </p:nvGrpSpPr>
                <p:grpSpPr>
                  <a:xfrm>
                    <a:off x="3775320" y="4284360"/>
                    <a:ext cx="312120" cy="246240"/>
                    <a:chOff x="3775320" y="4284360"/>
                    <a:chExt cx="312120" cy="246240"/>
                  </a:xfrm>
                </p:grpSpPr>
                <p:sp>
                  <p:nvSpPr>
                    <p:cNvPr id="1519" name="直接连接符 20510"/>
                    <p:cNvSpPr/>
                    <p:nvPr/>
                  </p:nvSpPr>
                  <p:spPr>
                    <a:xfrm>
                      <a:off x="3775320" y="435024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0" name="直接连接符 20511"/>
                    <p:cNvSpPr/>
                    <p:nvPr/>
                  </p:nvSpPr>
                  <p:spPr>
                    <a:xfrm flipV="1">
                      <a:off x="3785400" y="4284360"/>
                      <a:ext cx="36360" cy="630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组合 20512"/>
                  <p:cNvGrpSpPr/>
                  <p:nvPr/>
                </p:nvGrpSpPr>
                <p:grpSpPr>
                  <a:xfrm>
                    <a:off x="387360" y="1557360"/>
                    <a:ext cx="3968640" cy="3815640"/>
                    <a:chOff x="387360" y="1557360"/>
                    <a:chExt cx="3968640" cy="3815640"/>
                  </a:xfrm>
                </p:grpSpPr>
                <p:sp>
                  <p:nvSpPr>
                    <p:cNvPr id="1522" name="任意多边形 20513"/>
                    <p:cNvSpPr/>
                    <p:nvPr/>
                  </p:nvSpPr>
                  <p:spPr>
                    <a:xfrm rot="2628000">
                      <a:off x="2544480" y="3492000"/>
                      <a:ext cx="7128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3749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  <a:cubicBezTo>
                            <a:pt x="21600" y="22328"/>
                            <a:pt x="21564" y="23048"/>
                            <a:pt x="21494" y="23751"/>
                          </a:cubicBezTo>
                        </a:path>
                        <a:path stroke="0" w="21600" h="23749">
                          <a:moveTo>
                            <a:pt x="0" y="0"/>
                          </a:moveTo>
                          <a:cubicBezTo>
                            <a:pt x="11929" y="0"/>
                            <a:pt x="21600" y="9671"/>
                            <a:pt x="21600" y="21600"/>
                          </a:cubicBezTo>
                          <a:cubicBezTo>
                            <a:pt x="21600" y="22328"/>
                            <a:pt x="21564" y="23048"/>
                            <a:pt x="21494" y="23751"/>
                          </a:cubicBez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noFill/>
                    <a:ln w="158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3" name="文本框 20514"/>
                    <p:cNvSpPr/>
                    <p:nvPr/>
                  </p:nvSpPr>
                  <p:spPr>
                    <a:xfrm>
                      <a:off x="960480" y="4581360"/>
                      <a:ext cx="1224000" cy="385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100km</a:t>
                      </a:r>
                      <a:endParaRPr b="0" i="1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24" name="文本框 20515"/>
                    <p:cNvSpPr/>
                    <p:nvPr/>
                  </p:nvSpPr>
                  <p:spPr>
                    <a:xfrm>
                      <a:off x="2679480" y="3409920"/>
                      <a:ext cx="935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楷体_GB2312"/>
                        </a:rPr>
                        <a:t>30</a:t>
                      </a:r>
                      <a:r>
                        <a: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°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grpSp>
                  <p:nvGrpSpPr>
                    <p:cNvPr id="1525" name="组合 20516"/>
                    <p:cNvGrpSpPr/>
                    <p:nvPr/>
                  </p:nvGrpSpPr>
                  <p:grpSpPr>
                    <a:xfrm>
                      <a:off x="387360" y="1557360"/>
                      <a:ext cx="3968640" cy="3815640"/>
                      <a:chOff x="387360" y="1557360"/>
                      <a:chExt cx="3968640" cy="3815640"/>
                    </a:xfrm>
                  </p:grpSpPr>
                  <p:grpSp>
                    <p:nvGrpSpPr>
                      <p:cNvPr id="1526" name="组合 20517"/>
                      <p:cNvGrpSpPr/>
                      <p:nvPr/>
                    </p:nvGrpSpPr>
                    <p:grpSpPr>
                      <a:xfrm>
                        <a:off x="768240" y="1969920"/>
                        <a:ext cx="3024000" cy="3024360"/>
                        <a:chOff x="768240" y="1969920"/>
                        <a:chExt cx="3024000" cy="3024360"/>
                      </a:xfrm>
                    </p:grpSpPr>
                    <p:sp>
                      <p:nvSpPr>
                        <p:cNvPr id="1527" name="直接连接符 20518"/>
                        <p:cNvSpPr/>
                        <p:nvPr/>
                      </p:nvSpPr>
                      <p:spPr>
                        <a:xfrm>
                          <a:off x="2258640" y="1969920"/>
                          <a:ext cx="0" cy="302436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8" name="直接连接符 20519"/>
                        <p:cNvSpPr/>
                        <p:nvPr/>
                      </p:nvSpPr>
                      <p:spPr>
                        <a:xfrm flipH="1">
                          <a:off x="768240" y="3481560"/>
                          <a:ext cx="3024000" cy="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000000"/>
                          </a:solidFill>
                          <a:round/>
                          <a:headEnd len="med" type="arrow" w="med"/>
                          <a:tailEnd len="med" type="arrow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i="1" lang="en-US" sz="2400" spc="-1" strike="noStrike" u="sng">
                            <a:solidFill>
                              <a:srgbClr val="000000"/>
                            </a:solidFill>
                            <a:uFillTx/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29" name="文本框 20520"/>
                      <p:cNvSpPr/>
                      <p:nvPr/>
                    </p:nvSpPr>
                    <p:spPr>
                      <a:xfrm>
                        <a:off x="3706920" y="320364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东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30" name="文本框 20521"/>
                      <p:cNvSpPr/>
                      <p:nvPr/>
                    </p:nvSpPr>
                    <p:spPr>
                      <a:xfrm>
                        <a:off x="2006640" y="155736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北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31" name="文本框 20522"/>
                      <p:cNvSpPr/>
                      <p:nvPr/>
                    </p:nvSpPr>
                    <p:spPr>
                      <a:xfrm>
                        <a:off x="387360" y="3193920"/>
                        <a:ext cx="64908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西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32" name="文本框 20523"/>
                      <p:cNvSpPr/>
                      <p:nvPr/>
                    </p:nvSpPr>
                    <p:spPr>
                      <a:xfrm>
                        <a:off x="2039760" y="4913280"/>
                        <a:ext cx="64944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2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i="1" lang="zh-CN" sz="2000" spc="-1" strike="noStrike" u="sng">
                            <a:solidFill>
                              <a:srgbClr val="000000"/>
                            </a:solidFill>
                            <a:uFillTx/>
                            <a:latin typeface="楷体_GB2312"/>
                            <a:ea typeface="楷体_GB2312"/>
                          </a:rPr>
                          <a:t>南</a:t>
                        </a:r>
                        <a:endParaRPr b="0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33" name="椭圆 20524"/>
                  <p:cNvSpPr/>
                  <p:nvPr/>
                </p:nvSpPr>
                <p:spPr>
                  <a:xfrm>
                    <a:off x="4070160" y="4475160"/>
                    <a:ext cx="71640" cy="71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4" name="组合 20525"/>
              <p:cNvGrpSpPr/>
              <p:nvPr/>
            </p:nvGrpSpPr>
            <p:grpSpPr>
              <a:xfrm>
                <a:off x="1104840" y="3078000"/>
                <a:ext cx="2189160" cy="1925640"/>
                <a:chOff x="1104840" y="3078000"/>
                <a:chExt cx="2189160" cy="1925640"/>
              </a:xfrm>
            </p:grpSpPr>
            <p:sp>
              <p:nvSpPr>
                <p:cNvPr id="1535" name="直接连接符 20526"/>
                <p:cNvSpPr/>
                <p:nvPr/>
              </p:nvSpPr>
              <p:spPr>
                <a:xfrm>
                  <a:off x="2262600" y="3486600"/>
                  <a:ext cx="312120" cy="180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36" name="组合 20527"/>
                <p:cNvGrpSpPr/>
                <p:nvPr/>
              </p:nvGrpSpPr>
              <p:grpSpPr>
                <a:xfrm>
                  <a:off x="1104840" y="3078000"/>
                  <a:ext cx="2189160" cy="1925640"/>
                  <a:chOff x="1104840" y="3078000"/>
                  <a:chExt cx="2189160" cy="1925640"/>
                </a:xfrm>
              </p:grpSpPr>
              <p:grpSp>
                <p:nvGrpSpPr>
                  <p:cNvPr id="1537" name="组合 20528"/>
                  <p:cNvGrpSpPr/>
                  <p:nvPr/>
                </p:nvGrpSpPr>
                <p:grpSpPr>
                  <a:xfrm>
                    <a:off x="1104840" y="4930200"/>
                    <a:ext cx="360360" cy="73440"/>
                    <a:chOff x="1104840" y="4930200"/>
                    <a:chExt cx="360360" cy="73440"/>
                  </a:xfrm>
                </p:grpSpPr>
                <p:sp>
                  <p:nvSpPr>
                    <p:cNvPr id="1538" name="直接连接符 20529"/>
                    <p:cNvSpPr/>
                    <p:nvPr/>
                  </p:nvSpPr>
                  <p:spPr>
                    <a:xfrm>
                      <a:off x="1104840" y="5003640"/>
                      <a:ext cx="36036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39" name="直接连接符 20530"/>
                    <p:cNvSpPr/>
                    <p:nvPr/>
                  </p:nvSpPr>
                  <p:spPr>
                    <a:xfrm flipV="1">
                      <a:off x="1104840" y="49302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40" name="直接连接符 20531"/>
                    <p:cNvSpPr/>
                    <p:nvPr/>
                  </p:nvSpPr>
                  <p:spPr>
                    <a:xfrm flipV="1">
                      <a:off x="1458720" y="4930200"/>
                      <a:ext cx="0" cy="7308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1" name="组合 20532"/>
                  <p:cNvGrpSpPr/>
                  <p:nvPr/>
                </p:nvGrpSpPr>
                <p:grpSpPr>
                  <a:xfrm>
                    <a:off x="2554560" y="3589560"/>
                    <a:ext cx="312120" cy="245520"/>
                    <a:chOff x="2554560" y="3589560"/>
                    <a:chExt cx="312120" cy="245520"/>
                  </a:xfrm>
                </p:grpSpPr>
                <p:sp>
                  <p:nvSpPr>
                    <p:cNvPr id="1542" name="直接连接符 20533"/>
                    <p:cNvSpPr/>
                    <p:nvPr/>
                  </p:nvSpPr>
                  <p:spPr>
                    <a:xfrm>
                      <a:off x="2554560" y="3654720"/>
                      <a:ext cx="312120" cy="1803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543" name="直接连接符 20534"/>
                    <p:cNvSpPr/>
                    <p:nvPr/>
                  </p:nvSpPr>
                  <p:spPr>
                    <a:xfrm flipV="1">
                      <a:off x="2564640" y="3589560"/>
                      <a:ext cx="36360" cy="6264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840" bIns="1584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4" name="文本框 20535"/>
                  <p:cNvSpPr/>
                  <p:nvPr/>
                </p:nvSpPr>
                <p:spPr>
                  <a:xfrm>
                    <a:off x="2212920" y="3078000"/>
                    <a:ext cx="10810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A</a:t>
                    </a:r>
                    <a:r>
                      <a:rPr b="0" i="1" lang="zh-CN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  <a:ea typeface="楷体_GB2312"/>
                      </a:rPr>
                      <a:t>市</a:t>
                    </a:r>
                    <a:endPara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545" name="组合 20536"/>
          <p:cNvGrpSpPr/>
          <p:nvPr/>
        </p:nvGrpSpPr>
        <p:grpSpPr>
          <a:xfrm>
            <a:off x="1272960" y="1799640"/>
            <a:ext cx="1364040" cy="1683720"/>
            <a:chOff x="1272960" y="1799640"/>
            <a:chExt cx="1364040" cy="1683720"/>
          </a:xfrm>
        </p:grpSpPr>
        <p:sp>
          <p:nvSpPr>
            <p:cNvPr id="1546" name="直接连接符 20537"/>
            <p:cNvSpPr/>
            <p:nvPr/>
          </p:nvSpPr>
          <p:spPr>
            <a:xfrm>
              <a:off x="1272960" y="1799640"/>
              <a:ext cx="966600" cy="168372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7" name="任意多边形 20538"/>
            <p:cNvSpPr/>
            <p:nvPr/>
          </p:nvSpPr>
          <p:spPr>
            <a:xfrm rot="20102400">
              <a:off x="2076480" y="3117600"/>
              <a:ext cx="193680" cy="73080"/>
            </a:xfrm>
            <a:custGeom>
              <a:avLst/>
              <a:gdLst/>
              <a:ahLst/>
              <a:rect l="l" t="t" r="r" b="b"/>
              <a:pathLst>
                <a:path fill="none" w="19389" h="21600">
                  <a:moveTo>
                    <a:pt x="0" y="0"/>
                  </a:moveTo>
                  <a:cubicBezTo>
                    <a:pt x="8511" y="0"/>
                    <a:pt x="15872" y="4922"/>
                    <a:pt x="19391" y="12073"/>
                  </a:cubicBezTo>
                </a:path>
                <a:path stroke="0" w="19389" h="21600">
                  <a:moveTo>
                    <a:pt x="0" y="0"/>
                  </a:moveTo>
                  <a:cubicBezTo>
                    <a:pt x="8511" y="0"/>
                    <a:pt x="15872" y="4922"/>
                    <a:pt x="19391" y="1207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8" name="文本框 20539"/>
            <p:cNvSpPr/>
            <p:nvPr/>
          </p:nvSpPr>
          <p:spPr>
            <a:xfrm>
              <a:off x="1844640" y="2615760"/>
              <a:ext cx="7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0</a:t>
              </a:r>
              <a:r>
                <a:rPr b="0" i="1" lang="en-US" sz="20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°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49" name="矩形 20540"/>
          <p:cNvSpPr/>
          <p:nvPr/>
        </p:nvSpPr>
        <p:spPr>
          <a:xfrm>
            <a:off x="6024960" y="3413160"/>
            <a:ext cx="20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距离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市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千米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0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551" name="图片 21506" descr=""/>
          <p:cNvPicPr/>
          <p:nvPr/>
        </p:nvPicPr>
        <p:blipFill>
          <a:blip r:embed="rId2"/>
          <a:stretch/>
        </p:blipFill>
        <p:spPr>
          <a:xfrm>
            <a:off x="324000" y="252360"/>
            <a:ext cx="843912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2" name="图片 22529" descr="24"/>
          <p:cNvPicPr/>
          <p:nvPr/>
        </p:nvPicPr>
        <p:blipFill>
          <a:blip r:embed="rId1"/>
          <a:stretch/>
        </p:blipFill>
        <p:spPr>
          <a:xfrm>
            <a:off x="2349360" y="3068640"/>
            <a:ext cx="4552920" cy="3598920"/>
          </a:xfrm>
          <a:prstGeom prst="rect">
            <a:avLst/>
          </a:prstGeom>
          <a:ln w="0">
            <a:noFill/>
          </a:ln>
        </p:spPr>
      </p:pic>
      <p:sp>
        <p:nvSpPr>
          <p:cNvPr id="1553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4" name="矩形 22531"/>
          <p:cNvSpPr/>
          <p:nvPr/>
        </p:nvSpPr>
        <p:spPr>
          <a:xfrm>
            <a:off x="701640" y="1484280"/>
            <a:ext cx="660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在平面图上标出校园内各建筑物的位置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教学楼在校门的正北方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图书馆在校门的北偏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5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5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体育馆在校门的西偏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5" name="组合 22532"/>
          <p:cNvGrpSpPr/>
          <p:nvPr/>
        </p:nvGrpSpPr>
        <p:grpSpPr>
          <a:xfrm>
            <a:off x="3814200" y="3886200"/>
            <a:ext cx="1364400" cy="1496520"/>
            <a:chOff x="3814200" y="3886200"/>
            <a:chExt cx="1364400" cy="1496520"/>
          </a:xfrm>
        </p:grpSpPr>
        <p:grpSp>
          <p:nvGrpSpPr>
            <p:cNvPr id="1556" name="组合 22533"/>
            <p:cNvGrpSpPr/>
            <p:nvPr/>
          </p:nvGrpSpPr>
          <p:grpSpPr>
            <a:xfrm>
              <a:off x="4510080" y="4264200"/>
              <a:ext cx="90360" cy="1118520"/>
              <a:chOff x="4510080" y="4264200"/>
              <a:chExt cx="90360" cy="1118520"/>
            </a:xfrm>
          </p:grpSpPr>
          <p:sp>
            <p:nvSpPr>
              <p:cNvPr id="1557" name="直接连接符 22534"/>
              <p:cNvSpPr/>
              <p:nvPr/>
            </p:nvSpPr>
            <p:spPr>
              <a:xfrm>
                <a:off x="4519440" y="5013360"/>
                <a:ext cx="71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8" name="直接连接符 22535"/>
              <p:cNvSpPr/>
              <p:nvPr/>
            </p:nvSpPr>
            <p:spPr>
              <a:xfrm>
                <a:off x="4527720" y="4660920"/>
                <a:ext cx="0" cy="3603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9" name="直接连接符 22536"/>
              <p:cNvSpPr/>
              <p:nvPr/>
            </p:nvSpPr>
            <p:spPr>
              <a:xfrm>
                <a:off x="4529160" y="4653000"/>
                <a:ext cx="71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60" name="组合 22537"/>
              <p:cNvGrpSpPr/>
              <p:nvPr/>
            </p:nvGrpSpPr>
            <p:grpSpPr>
              <a:xfrm>
                <a:off x="4510080" y="4264200"/>
                <a:ext cx="36360" cy="1118520"/>
                <a:chOff x="4510080" y="4264200"/>
                <a:chExt cx="36360" cy="1118520"/>
              </a:xfrm>
            </p:grpSpPr>
            <p:sp>
              <p:nvSpPr>
                <p:cNvPr id="1561" name="直接连接符 22538"/>
                <p:cNvSpPr/>
                <p:nvPr/>
              </p:nvSpPr>
              <p:spPr>
                <a:xfrm>
                  <a:off x="4527720" y="5022000"/>
                  <a:ext cx="0" cy="360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62" name="直接连接符 22539"/>
                <p:cNvSpPr/>
                <p:nvPr/>
              </p:nvSpPr>
              <p:spPr>
                <a:xfrm>
                  <a:off x="4527720" y="4300560"/>
                  <a:ext cx="0" cy="36072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63" name="椭圆 22540"/>
                <p:cNvSpPr/>
                <p:nvPr/>
              </p:nvSpPr>
              <p:spPr>
                <a:xfrm>
                  <a:off x="4510080" y="4264200"/>
                  <a:ext cx="3636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64" name="文本框 22541"/>
            <p:cNvSpPr/>
            <p:nvPr/>
          </p:nvSpPr>
          <p:spPr>
            <a:xfrm>
              <a:off x="4097160" y="3886200"/>
              <a:ext cx="10814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18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教学楼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65" name="矩形 22542"/>
            <p:cNvSpPr/>
            <p:nvPr/>
          </p:nvSpPr>
          <p:spPr>
            <a:xfrm>
              <a:off x="3814200" y="4424400"/>
              <a:ext cx="724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50</a:t>
              </a: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66" name="组合 22543"/>
          <p:cNvGrpSpPr/>
          <p:nvPr/>
        </p:nvGrpSpPr>
        <p:grpSpPr>
          <a:xfrm>
            <a:off x="4446720" y="4149720"/>
            <a:ext cx="1782720" cy="1191240"/>
            <a:chOff x="4446720" y="4149720"/>
            <a:chExt cx="1782720" cy="1191240"/>
          </a:xfrm>
        </p:grpSpPr>
        <p:grpSp>
          <p:nvGrpSpPr>
            <p:cNvPr id="1567" name="组合 22544"/>
            <p:cNvGrpSpPr/>
            <p:nvPr/>
          </p:nvGrpSpPr>
          <p:grpSpPr>
            <a:xfrm>
              <a:off x="4446720" y="4149720"/>
              <a:ext cx="1782720" cy="1191240"/>
              <a:chOff x="4446720" y="4149720"/>
              <a:chExt cx="1782720" cy="1191240"/>
            </a:xfrm>
          </p:grpSpPr>
          <p:sp>
            <p:nvSpPr>
              <p:cNvPr id="1568" name="直接连接符 22545"/>
              <p:cNvSpPr/>
              <p:nvPr/>
            </p:nvSpPr>
            <p:spPr>
              <a:xfrm flipH="1">
                <a:off x="4946400" y="4463280"/>
                <a:ext cx="206640" cy="295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69" name="组合 22546"/>
              <p:cNvGrpSpPr/>
              <p:nvPr/>
            </p:nvGrpSpPr>
            <p:grpSpPr>
              <a:xfrm>
                <a:off x="4446720" y="4149720"/>
                <a:ext cx="1782720" cy="1191240"/>
                <a:chOff x="4446720" y="4149720"/>
                <a:chExt cx="1782720" cy="1191240"/>
              </a:xfrm>
            </p:grpSpPr>
            <p:grpSp>
              <p:nvGrpSpPr>
                <p:cNvPr id="1570" name="组合 22547"/>
                <p:cNvGrpSpPr/>
                <p:nvPr/>
              </p:nvGrpSpPr>
              <p:grpSpPr>
                <a:xfrm>
                  <a:off x="4446720" y="4149720"/>
                  <a:ext cx="1782720" cy="926280"/>
                  <a:chOff x="4446720" y="4149720"/>
                  <a:chExt cx="1782720" cy="926280"/>
                </a:xfrm>
              </p:grpSpPr>
              <p:sp>
                <p:nvSpPr>
                  <p:cNvPr id="1571" name="文本框 22548"/>
                  <p:cNvSpPr/>
                  <p:nvPr/>
                </p:nvSpPr>
                <p:spPr>
                  <a:xfrm>
                    <a:off x="5148360" y="4149720"/>
                    <a:ext cx="1081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zh-CN" sz="1800" spc="-1" strike="noStrike" u="sng">
                        <a:solidFill>
                          <a:srgbClr val="ff0000"/>
                        </a:solidFill>
                        <a:uFillTx/>
                        <a:latin typeface="楷体_GB2312"/>
                        <a:ea typeface="楷体_GB2312"/>
                      </a:rPr>
                      <a:t>图书馆</a:t>
                    </a:r>
                    <a:endPara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2" name="文本框 22549"/>
                  <p:cNvSpPr/>
                  <p:nvPr/>
                </p:nvSpPr>
                <p:spPr>
                  <a:xfrm>
                    <a:off x="4446720" y="4653000"/>
                    <a:ext cx="792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800" spc="-1" strike="noStrike" u="sng">
                        <a:solidFill>
                          <a:srgbClr val="ff0000"/>
                        </a:solidFill>
                        <a:uFillTx/>
                        <a:latin typeface="Arial"/>
                        <a:ea typeface="楷体_GB2312"/>
                      </a:rPr>
                      <a:t>35°</a:t>
                    </a:r>
                    <a:endParaRPr b="0" i="1" lang="en-US" sz="18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grpSp>
              <p:nvGrpSpPr>
                <p:cNvPr id="1573" name="组合 22550"/>
                <p:cNvGrpSpPr/>
                <p:nvPr/>
              </p:nvGrpSpPr>
              <p:grpSpPr>
                <a:xfrm>
                  <a:off x="4539960" y="4755960"/>
                  <a:ext cx="468360" cy="585000"/>
                  <a:chOff x="4539960" y="4755960"/>
                  <a:chExt cx="468360" cy="585000"/>
                </a:xfrm>
              </p:grpSpPr>
              <p:sp>
                <p:nvSpPr>
                  <p:cNvPr id="1574" name="直接连接符 22551"/>
                  <p:cNvSpPr/>
                  <p:nvPr/>
                </p:nvSpPr>
                <p:spPr>
                  <a:xfrm>
                    <a:off x="4740840" y="5045040"/>
                    <a:ext cx="61560" cy="4104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5" name="直接连接符 22552"/>
                  <p:cNvSpPr/>
                  <p:nvPr/>
                </p:nvSpPr>
                <p:spPr>
                  <a:xfrm flipH="1">
                    <a:off x="4539960" y="5045760"/>
                    <a:ext cx="206640" cy="295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6" name="直接连接符 22553"/>
                  <p:cNvSpPr/>
                  <p:nvPr/>
                </p:nvSpPr>
                <p:spPr>
                  <a:xfrm>
                    <a:off x="4946760" y="4755960"/>
                    <a:ext cx="61560" cy="414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577" name="直接连接符 22554"/>
                  <p:cNvSpPr/>
                  <p:nvPr/>
                </p:nvSpPr>
                <p:spPr>
                  <a:xfrm flipH="1">
                    <a:off x="4745160" y="4756680"/>
                    <a:ext cx="206640" cy="29520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  <p:sp>
              <p:nvSpPr>
                <p:cNvPr id="1578" name="任意多边形 22555"/>
                <p:cNvSpPr/>
                <p:nvPr/>
              </p:nvSpPr>
              <p:spPr>
                <a:xfrm>
                  <a:off x="4543560" y="5086440"/>
                  <a:ext cx="144360" cy="71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</a:path>
                    <a:path stroke="0" w="21600" h="21600">
                      <a:moveTo>
                        <a:pt x="0" y="0"/>
                      </a:moveTo>
                      <a:cubicBezTo>
                        <a:pt x="11929" y="0"/>
                        <a:pt x="21600" y="9671"/>
                        <a:pt x="21600" y="21600"/>
                      </a:cubicBezTo>
                      <a:lnTo>
                        <a:pt x="0" y="21600"/>
                      </a:lnTo>
                      <a:close/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  <p:sp>
          <p:nvSpPr>
            <p:cNvPr id="1579" name="椭圆 22556"/>
            <p:cNvSpPr/>
            <p:nvPr/>
          </p:nvSpPr>
          <p:spPr>
            <a:xfrm>
              <a:off x="5148360" y="4427640"/>
              <a:ext cx="36360" cy="36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80" name="组合 22557"/>
          <p:cNvGrpSpPr/>
          <p:nvPr/>
        </p:nvGrpSpPr>
        <p:grpSpPr>
          <a:xfrm>
            <a:off x="2916360" y="3990960"/>
            <a:ext cx="1619640" cy="1391040"/>
            <a:chOff x="2916360" y="3990960"/>
            <a:chExt cx="1619640" cy="1391040"/>
          </a:xfrm>
        </p:grpSpPr>
        <p:grpSp>
          <p:nvGrpSpPr>
            <p:cNvPr id="1581" name="组合 22558"/>
            <p:cNvGrpSpPr/>
            <p:nvPr/>
          </p:nvGrpSpPr>
          <p:grpSpPr>
            <a:xfrm>
              <a:off x="2916360" y="3990960"/>
              <a:ext cx="1619640" cy="1391040"/>
              <a:chOff x="2916360" y="3990960"/>
              <a:chExt cx="1619640" cy="1391040"/>
            </a:xfrm>
          </p:grpSpPr>
          <p:grpSp>
            <p:nvGrpSpPr>
              <p:cNvPr id="1582" name="组合 22559"/>
              <p:cNvGrpSpPr/>
              <p:nvPr/>
            </p:nvGrpSpPr>
            <p:grpSpPr>
              <a:xfrm>
                <a:off x="3385800" y="4398840"/>
                <a:ext cx="1150200" cy="983160"/>
                <a:chOff x="3385800" y="4398840"/>
                <a:chExt cx="1150200" cy="983160"/>
              </a:xfrm>
            </p:grpSpPr>
            <p:sp>
              <p:nvSpPr>
                <p:cNvPr id="1583" name="椭圆 22560"/>
                <p:cNvSpPr/>
                <p:nvPr/>
              </p:nvSpPr>
              <p:spPr>
                <a:xfrm>
                  <a:off x="3385800" y="4398840"/>
                  <a:ext cx="36720" cy="3636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584" name="组合 22561"/>
                <p:cNvGrpSpPr/>
                <p:nvPr/>
              </p:nvGrpSpPr>
              <p:grpSpPr>
                <a:xfrm>
                  <a:off x="3413880" y="4438800"/>
                  <a:ext cx="1122120" cy="943200"/>
                  <a:chOff x="3413880" y="4438800"/>
                  <a:chExt cx="1122120" cy="943200"/>
                </a:xfrm>
              </p:grpSpPr>
              <p:grpSp>
                <p:nvGrpSpPr>
                  <p:cNvPr id="1585" name="组合 22562"/>
                  <p:cNvGrpSpPr/>
                  <p:nvPr/>
                </p:nvGrpSpPr>
                <p:grpSpPr>
                  <a:xfrm>
                    <a:off x="3684600" y="4623840"/>
                    <a:ext cx="851400" cy="758160"/>
                    <a:chOff x="3684600" y="4623840"/>
                    <a:chExt cx="851400" cy="758160"/>
                  </a:xfrm>
                </p:grpSpPr>
                <p:grpSp>
                  <p:nvGrpSpPr>
                    <p:cNvPr id="1586" name="组合 22563"/>
                    <p:cNvGrpSpPr/>
                    <p:nvPr/>
                  </p:nvGrpSpPr>
                  <p:grpSpPr>
                    <a:xfrm>
                      <a:off x="4248000" y="5096880"/>
                      <a:ext cx="288000" cy="285120"/>
                      <a:chOff x="4248000" y="5096880"/>
                      <a:chExt cx="288000" cy="285120"/>
                    </a:xfrm>
                  </p:grpSpPr>
                  <p:sp>
                    <p:nvSpPr>
                      <p:cNvPr id="1587" name="直接连接符 22564"/>
                      <p:cNvSpPr/>
                      <p:nvPr/>
                    </p:nvSpPr>
                    <p:spPr>
                      <a:xfrm flipV="1">
                        <a:off x="4248000" y="5096880"/>
                        <a:ext cx="4932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直接连接符 22565"/>
                      <p:cNvSpPr/>
                      <p:nvPr/>
                    </p:nvSpPr>
                    <p:spPr>
                      <a:xfrm>
                        <a:off x="4259880" y="515052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89" name="组合 22566"/>
                    <p:cNvGrpSpPr/>
                    <p:nvPr/>
                  </p:nvGrpSpPr>
                  <p:grpSpPr>
                    <a:xfrm>
                      <a:off x="3963960" y="4858560"/>
                      <a:ext cx="288000" cy="285120"/>
                      <a:chOff x="3963960" y="4858560"/>
                      <a:chExt cx="288000" cy="285120"/>
                    </a:xfrm>
                  </p:grpSpPr>
                  <p:sp>
                    <p:nvSpPr>
                      <p:cNvPr id="1590" name="直接连接符 22567"/>
                      <p:cNvSpPr/>
                      <p:nvPr/>
                    </p:nvSpPr>
                    <p:spPr>
                      <a:xfrm flipV="1">
                        <a:off x="3963960" y="4858560"/>
                        <a:ext cx="4932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91" name="直接连接符 22568"/>
                      <p:cNvSpPr/>
                      <p:nvPr/>
                    </p:nvSpPr>
                    <p:spPr>
                      <a:xfrm>
                        <a:off x="3975840" y="491220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2" name="组合 22569"/>
                    <p:cNvGrpSpPr/>
                    <p:nvPr/>
                  </p:nvGrpSpPr>
                  <p:grpSpPr>
                    <a:xfrm>
                      <a:off x="3684600" y="4623840"/>
                      <a:ext cx="288000" cy="285120"/>
                      <a:chOff x="3684600" y="4623840"/>
                      <a:chExt cx="288000" cy="285120"/>
                    </a:xfrm>
                  </p:grpSpPr>
                  <p:sp>
                    <p:nvSpPr>
                      <p:cNvPr id="1593" name="直接连接符 22570"/>
                      <p:cNvSpPr/>
                      <p:nvPr/>
                    </p:nvSpPr>
                    <p:spPr>
                      <a:xfrm flipV="1">
                        <a:off x="3684600" y="4623840"/>
                        <a:ext cx="49320" cy="5040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直接连接符 22571"/>
                      <p:cNvSpPr/>
                      <p:nvPr/>
                    </p:nvSpPr>
                    <p:spPr>
                      <a:xfrm>
                        <a:off x="3696480" y="4677480"/>
                        <a:ext cx="276120" cy="231480"/>
                      </a:xfrm>
                      <a:prstGeom prst="line">
                        <a:avLst/>
                      </a:prstGeom>
                      <a:ln w="19080">
                        <a:solidFill>
                          <a:srgbClr val="ff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595" name="直接连接符 22572"/>
                  <p:cNvSpPr/>
                  <p:nvPr/>
                </p:nvSpPr>
                <p:spPr>
                  <a:xfrm>
                    <a:off x="3413880" y="443880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  <p:sp>
            <p:nvSpPr>
              <p:cNvPr id="1596" name="文本框 22573"/>
              <p:cNvSpPr/>
              <p:nvPr/>
            </p:nvSpPr>
            <p:spPr>
              <a:xfrm>
                <a:off x="2916360" y="399096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体育馆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97" name="文本框 22574"/>
            <p:cNvSpPr/>
            <p:nvPr/>
          </p:nvSpPr>
          <p:spPr>
            <a:xfrm>
              <a:off x="3203640" y="4653000"/>
              <a:ext cx="1081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200</a:t>
              </a: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Times New Roman"/>
                  <a:ea typeface="楷体_GB2312"/>
                </a:rPr>
                <a:t>m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8" name="组合 22575"/>
          <p:cNvGrpSpPr/>
          <p:nvPr/>
        </p:nvGrpSpPr>
        <p:grpSpPr>
          <a:xfrm>
            <a:off x="4062240" y="4714920"/>
            <a:ext cx="927360" cy="543600"/>
            <a:chOff x="4062240" y="4714920"/>
            <a:chExt cx="927360" cy="543600"/>
          </a:xfrm>
        </p:grpSpPr>
        <p:sp>
          <p:nvSpPr>
            <p:cNvPr id="1599" name="文本框 22576"/>
            <p:cNvSpPr/>
            <p:nvPr/>
          </p:nvSpPr>
          <p:spPr>
            <a:xfrm>
              <a:off x="4062240" y="4714920"/>
              <a:ext cx="927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0</a:t>
              </a:r>
              <a:r>
                <a:rPr b="0" i="1" lang="en-US" sz="1800" spc="-1" strike="noStrike" u="sng">
                  <a:solidFill>
                    <a:srgbClr val="ff0000"/>
                  </a:solidFill>
                  <a:uFillTx/>
                  <a:latin typeface="楷体_GB2312"/>
                  <a:ea typeface="楷体_GB2312"/>
                </a:rPr>
                <a:t>°</a:t>
              </a:r>
              <a:endParaRPr b="0" i="1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0" name="任意多边形 22577"/>
            <p:cNvSpPr/>
            <p:nvPr/>
          </p:nvSpPr>
          <p:spPr>
            <a:xfrm rot="19800000">
              <a:off x="4308120" y="5103360"/>
              <a:ext cx="216000" cy="108000"/>
            </a:xfrm>
            <a:custGeom>
              <a:avLst/>
              <a:gdLst/>
              <a:ahLst/>
              <a:rect l="l" t="t" r="r" b="b"/>
              <a:pathLst>
                <a:path fill="none" w="19389" h="21600">
                  <a:moveTo>
                    <a:pt x="0" y="0"/>
                  </a:moveTo>
                  <a:cubicBezTo>
                    <a:pt x="8511" y="0"/>
                    <a:pt x="15872" y="4922"/>
                    <a:pt x="19391" y="12073"/>
                  </a:cubicBezTo>
                </a:path>
                <a:path stroke="0" w="19389" h="21600">
                  <a:moveTo>
                    <a:pt x="0" y="0"/>
                  </a:moveTo>
                  <a:cubicBezTo>
                    <a:pt x="8511" y="0"/>
                    <a:pt x="15872" y="4922"/>
                    <a:pt x="19391" y="12073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01" name="矩形 22578"/>
          <p:cNvSpPr/>
          <p:nvPr/>
        </p:nvSpPr>
        <p:spPr>
          <a:xfrm>
            <a:off x="4901760" y="4672080"/>
            <a:ext cx="72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50</a:t>
            </a:r>
            <a:r>
              <a:rPr b="0" i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m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2" name="矩形 22579"/>
          <p:cNvSpPr/>
          <p:nvPr/>
        </p:nvSpPr>
        <p:spPr>
          <a:xfrm>
            <a:off x="7038720" y="3500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3" name="矩形 22580"/>
          <p:cNvSpPr/>
          <p:nvPr/>
        </p:nvSpPr>
        <p:spPr>
          <a:xfrm>
            <a:off x="7254720" y="371628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Rectangle 2"/>
          <p:cNvSpPr/>
          <p:nvPr/>
        </p:nvSpPr>
        <p:spPr>
          <a:xfrm>
            <a:off x="500040" y="357120"/>
            <a:ext cx="4071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三、巩固练习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5" name="矩形 23554"/>
          <p:cNvSpPr/>
          <p:nvPr/>
        </p:nvSpPr>
        <p:spPr>
          <a:xfrm>
            <a:off x="701640" y="1484280"/>
            <a:ext cx="747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石油勘探队在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城东偏北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0°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方向上，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处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打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口油井。请你在平面图上确定油井的位置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06" name="组合 23555"/>
          <p:cNvGrpSpPr/>
          <p:nvPr/>
        </p:nvGrpSpPr>
        <p:grpSpPr>
          <a:xfrm>
            <a:off x="1971720" y="2279520"/>
            <a:ext cx="3968640" cy="3815640"/>
            <a:chOff x="1971720" y="2279520"/>
            <a:chExt cx="3968640" cy="3815640"/>
          </a:xfrm>
        </p:grpSpPr>
        <p:grpSp>
          <p:nvGrpSpPr>
            <p:cNvPr id="1607" name="组合 23556"/>
            <p:cNvGrpSpPr/>
            <p:nvPr/>
          </p:nvGrpSpPr>
          <p:grpSpPr>
            <a:xfrm>
              <a:off x="1971720" y="2279520"/>
              <a:ext cx="3968640" cy="3815640"/>
              <a:chOff x="1971720" y="2279520"/>
              <a:chExt cx="3968640" cy="3815640"/>
            </a:xfrm>
          </p:grpSpPr>
          <p:grpSp>
            <p:nvGrpSpPr>
              <p:cNvPr id="1608" name="组合 23557"/>
              <p:cNvGrpSpPr/>
              <p:nvPr/>
            </p:nvGrpSpPr>
            <p:grpSpPr>
              <a:xfrm>
                <a:off x="2554200" y="5649480"/>
                <a:ext cx="360360" cy="73440"/>
                <a:chOff x="2554200" y="5649480"/>
                <a:chExt cx="360360" cy="73440"/>
              </a:xfrm>
            </p:grpSpPr>
            <p:sp>
              <p:nvSpPr>
                <p:cNvPr id="1609" name="直接连接符 23558"/>
                <p:cNvSpPr/>
                <p:nvPr/>
              </p:nvSpPr>
              <p:spPr>
                <a:xfrm>
                  <a:off x="2554200" y="5722920"/>
                  <a:ext cx="360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0" name="直接连接符 23559"/>
                <p:cNvSpPr/>
                <p:nvPr/>
              </p:nvSpPr>
              <p:spPr>
                <a:xfrm flipV="1">
                  <a:off x="255420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11" name="直接连接符 23560"/>
                <p:cNvSpPr/>
                <p:nvPr/>
              </p:nvSpPr>
              <p:spPr>
                <a:xfrm flipV="1">
                  <a:off x="2908080" y="5649480"/>
                  <a:ext cx="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1612" name="组合 23561"/>
              <p:cNvGrpSpPr/>
              <p:nvPr/>
            </p:nvGrpSpPr>
            <p:grpSpPr>
              <a:xfrm>
                <a:off x="1971720" y="2279520"/>
                <a:ext cx="3968640" cy="3815640"/>
                <a:chOff x="1971720" y="2279520"/>
                <a:chExt cx="3968640" cy="3815640"/>
              </a:xfrm>
            </p:grpSpPr>
            <p:sp>
              <p:nvSpPr>
                <p:cNvPr id="1613" name="文本框 23562"/>
                <p:cNvSpPr/>
                <p:nvPr/>
              </p:nvSpPr>
              <p:spPr>
                <a:xfrm>
                  <a:off x="2409840" y="5300640"/>
                  <a:ext cx="1224000" cy="385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r>
                    <a:rPr b="0" i="1" lang="en-US" sz="16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楷体_GB2312"/>
                    </a:rPr>
                    <a:t>km</a:t>
                  </a:r>
                  <a:endParaRPr b="0" i="1" lang="en-US" sz="16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grpSp>
              <p:nvGrpSpPr>
                <p:cNvPr id="1614" name="组合 23563"/>
                <p:cNvGrpSpPr/>
                <p:nvPr/>
              </p:nvGrpSpPr>
              <p:grpSpPr>
                <a:xfrm>
                  <a:off x="1971720" y="2279520"/>
                  <a:ext cx="3968640" cy="3815640"/>
                  <a:chOff x="1971720" y="2279520"/>
                  <a:chExt cx="3968640" cy="3815640"/>
                </a:xfrm>
              </p:grpSpPr>
              <p:grpSp>
                <p:nvGrpSpPr>
                  <p:cNvPr id="1615" name="组合 23564"/>
                  <p:cNvGrpSpPr/>
                  <p:nvPr/>
                </p:nvGrpSpPr>
                <p:grpSpPr>
                  <a:xfrm>
                    <a:off x="1971720" y="2279520"/>
                    <a:ext cx="3968640" cy="3815640"/>
                    <a:chOff x="1971720" y="2279520"/>
                    <a:chExt cx="3968640" cy="3815640"/>
                  </a:xfrm>
                </p:grpSpPr>
                <p:grpSp>
                  <p:nvGrpSpPr>
                    <p:cNvPr id="1616" name="组合 23565"/>
                    <p:cNvGrpSpPr/>
                    <p:nvPr/>
                  </p:nvGrpSpPr>
                  <p:grpSpPr>
                    <a:xfrm>
                      <a:off x="2352600" y="2692080"/>
                      <a:ext cx="3024000" cy="3024360"/>
                      <a:chOff x="2352600" y="2692080"/>
                      <a:chExt cx="3024000" cy="3024360"/>
                    </a:xfrm>
                  </p:grpSpPr>
                  <p:sp>
                    <p:nvSpPr>
                      <p:cNvPr id="1617" name="直接连接符 23566"/>
                      <p:cNvSpPr/>
                      <p:nvPr/>
                    </p:nvSpPr>
                    <p:spPr>
                      <a:xfrm>
                        <a:off x="3843000" y="2692080"/>
                        <a:ext cx="0" cy="302436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  <p:sp>
                    <p:nvSpPr>
                      <p:cNvPr id="1618" name="直接连接符 23567"/>
                      <p:cNvSpPr/>
                      <p:nvPr/>
                    </p:nvSpPr>
                    <p:spPr>
                      <a:xfrm flipH="1">
                        <a:off x="2352600" y="4203720"/>
                        <a:ext cx="30240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round/>
                        <a:headEnd len="med" type="arrow" w="med"/>
                        <a:tailEnd len="med" type="arrow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619" name="文本框 23568"/>
                    <p:cNvSpPr/>
                    <p:nvPr/>
                  </p:nvSpPr>
                  <p:spPr>
                    <a:xfrm>
                      <a:off x="5291280" y="3925800"/>
                      <a:ext cx="649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东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0" name="文本框 23569"/>
                    <p:cNvSpPr/>
                    <p:nvPr/>
                  </p:nvSpPr>
                  <p:spPr>
                    <a:xfrm>
                      <a:off x="3591000" y="2279520"/>
                      <a:ext cx="649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北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1" name="文本框 23570"/>
                    <p:cNvSpPr/>
                    <p:nvPr/>
                  </p:nvSpPr>
                  <p:spPr>
                    <a:xfrm>
                      <a:off x="1971720" y="3916080"/>
                      <a:ext cx="6490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西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22" name="文本框 23571"/>
                    <p:cNvSpPr/>
                    <p:nvPr/>
                  </p:nvSpPr>
                  <p:spPr>
                    <a:xfrm>
                      <a:off x="3624120" y="5635440"/>
                      <a:ext cx="6494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楷体_GB2312"/>
                          <a:ea typeface="楷体_GB2312"/>
                        </a:rPr>
                        <a:t>南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3" name="椭圆 23572"/>
                  <p:cNvSpPr/>
                  <p:nvPr/>
                </p:nvSpPr>
                <p:spPr>
                  <a:xfrm>
                    <a:off x="3800520" y="4151160"/>
                    <a:ext cx="7128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24" name="文本框 23573"/>
            <p:cNvSpPr/>
            <p:nvPr/>
          </p:nvSpPr>
          <p:spPr>
            <a:xfrm>
              <a:off x="3780000" y="37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A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25" name="组合 23574"/>
          <p:cNvGrpSpPr/>
          <p:nvPr/>
        </p:nvGrpSpPr>
        <p:grpSpPr>
          <a:xfrm>
            <a:off x="3780000" y="3068640"/>
            <a:ext cx="1368360" cy="1186560"/>
            <a:chOff x="3780000" y="3068640"/>
            <a:chExt cx="1368360" cy="1186560"/>
          </a:xfrm>
        </p:grpSpPr>
        <p:grpSp>
          <p:nvGrpSpPr>
            <p:cNvPr id="1626" name="组合 23575"/>
            <p:cNvGrpSpPr/>
            <p:nvPr/>
          </p:nvGrpSpPr>
          <p:grpSpPr>
            <a:xfrm>
              <a:off x="3780000" y="3068640"/>
              <a:ext cx="1368360" cy="1186560"/>
              <a:chOff x="3780000" y="3068640"/>
              <a:chExt cx="1368360" cy="1186560"/>
            </a:xfrm>
          </p:grpSpPr>
          <p:grpSp>
            <p:nvGrpSpPr>
              <p:cNvPr id="1627" name="组合 23576"/>
              <p:cNvGrpSpPr/>
              <p:nvPr/>
            </p:nvGrpSpPr>
            <p:grpSpPr>
              <a:xfrm>
                <a:off x="3831120" y="3068640"/>
                <a:ext cx="1317240" cy="1133640"/>
                <a:chOff x="3831120" y="3068640"/>
                <a:chExt cx="1317240" cy="1133640"/>
              </a:xfrm>
            </p:grpSpPr>
            <p:grpSp>
              <p:nvGrpSpPr>
                <p:cNvPr id="1628" name="组合 23577"/>
                <p:cNvGrpSpPr/>
                <p:nvPr/>
              </p:nvGrpSpPr>
              <p:grpSpPr>
                <a:xfrm>
                  <a:off x="3831120" y="3467160"/>
                  <a:ext cx="867960" cy="735120"/>
                  <a:chOff x="3831120" y="3467160"/>
                  <a:chExt cx="867960" cy="735120"/>
                </a:xfrm>
              </p:grpSpPr>
              <p:sp>
                <p:nvSpPr>
                  <p:cNvPr id="1629" name="直接连接符 23578"/>
                  <p:cNvSpPr/>
                  <p:nvPr/>
                </p:nvSpPr>
                <p:spPr>
                  <a:xfrm flipH="1">
                    <a:off x="3831120" y="3970800"/>
                    <a:ext cx="276120" cy="2314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sp>
                <p:nvSpPr>
                  <p:cNvPr id="1630" name="直接连接符 23579"/>
                  <p:cNvSpPr/>
                  <p:nvPr/>
                </p:nvSpPr>
                <p:spPr>
                  <a:xfrm flipH="1" flipV="1">
                    <a:off x="4107600" y="3965400"/>
                    <a:ext cx="46080" cy="5508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i="1" lang="en-US" sz="2400" spc="-1" strike="noStrike" u="sng">
                      <a:solidFill>
                        <a:srgbClr val="000000"/>
                      </a:solidFill>
                      <a:uFillTx/>
                      <a:latin typeface="Arial"/>
                    </a:endParaRPr>
                  </a:p>
                </p:txBody>
              </p:sp>
              <p:grpSp>
                <p:nvGrpSpPr>
                  <p:cNvPr id="1631" name="组合 23580"/>
                  <p:cNvGrpSpPr/>
                  <p:nvPr/>
                </p:nvGrpSpPr>
                <p:grpSpPr>
                  <a:xfrm>
                    <a:off x="4109040" y="3467160"/>
                    <a:ext cx="590040" cy="503280"/>
                    <a:chOff x="4109040" y="3467160"/>
                    <a:chExt cx="590040" cy="503280"/>
                  </a:xfrm>
                </p:grpSpPr>
                <p:sp>
                  <p:nvSpPr>
                    <p:cNvPr id="1632" name="直接连接符 23581"/>
                    <p:cNvSpPr/>
                    <p:nvPr/>
                  </p:nvSpPr>
                  <p:spPr>
                    <a:xfrm flipH="1">
                      <a:off x="4109040" y="373896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33" name="直接连接符 23582"/>
                    <p:cNvSpPr/>
                    <p:nvPr/>
                  </p:nvSpPr>
                  <p:spPr>
                    <a:xfrm flipH="1" flipV="1">
                      <a:off x="4385520" y="3734280"/>
                      <a:ext cx="46080" cy="547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34" name="直接连接符 23583"/>
                    <p:cNvSpPr/>
                    <p:nvPr/>
                  </p:nvSpPr>
                  <p:spPr>
                    <a:xfrm flipH="1">
                      <a:off x="4388400" y="3500640"/>
                      <a:ext cx="276120" cy="23148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  <p:sp>
                  <p:nvSpPr>
                    <p:cNvPr id="1635" name="椭圆 23584"/>
                    <p:cNvSpPr/>
                    <p:nvPr/>
                  </p:nvSpPr>
                  <p:spPr>
                    <a:xfrm>
                      <a:off x="4662360" y="3467160"/>
                      <a:ext cx="36720" cy="36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6" name="文本框 23585"/>
                <p:cNvSpPr/>
                <p:nvPr/>
              </p:nvSpPr>
              <p:spPr>
                <a:xfrm>
                  <a:off x="4427640" y="3068640"/>
                  <a:ext cx="720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zh-CN" sz="2000" spc="-1" strike="noStrike" u="sng">
                      <a:solidFill>
                        <a:srgbClr val="ff0000"/>
                      </a:solidFill>
                      <a:uFillTx/>
                      <a:latin typeface="楷体_GB2312"/>
                      <a:ea typeface="楷体_GB2312"/>
                    </a:rPr>
                    <a:t>油井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37" name="文本框 23586"/>
              <p:cNvSpPr/>
              <p:nvPr/>
            </p:nvSpPr>
            <p:spPr>
              <a:xfrm>
                <a:off x="4048200" y="3832200"/>
                <a:ext cx="93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40</a:t>
                </a:r>
                <a:r>
                  <a:rPr b="0" i="1" lang="en-US" sz="1800" spc="-1" strike="noStrike" u="sng">
                    <a:solidFill>
                      <a:srgbClr val="ff0000"/>
                    </a:solidFill>
                    <a:uFillTx/>
                    <a:latin typeface="楷体_GB2312"/>
                    <a:ea typeface="楷体_GB2312"/>
                  </a:rPr>
                  <a:t>°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8" name="文本框 23587"/>
              <p:cNvSpPr/>
              <p:nvPr/>
            </p:nvSpPr>
            <p:spPr>
              <a:xfrm>
                <a:off x="3780000" y="3274920"/>
                <a:ext cx="936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  <a:ea typeface="楷体_GB2312"/>
                  </a:rPr>
                  <a:t>45</a:t>
                </a:r>
                <a:r>
                  <a:rPr b="0" i="1" lang="en-US" sz="1800" spc="-1" strike="noStrike" u="sng">
                    <a:solidFill>
                      <a:srgbClr val="ff0000"/>
                    </a:solidFill>
                    <a:uFillTx/>
                    <a:latin typeface="Times New Roman"/>
                    <a:ea typeface="楷体_GB2312"/>
                  </a:rPr>
                  <a:t>km</a:t>
                </a:r>
                <a:endParaRPr b="0" i="1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39" name="任意多边形 23588"/>
            <p:cNvSpPr/>
            <p:nvPr/>
          </p:nvSpPr>
          <p:spPr>
            <a:xfrm>
              <a:off x="4010040" y="4043520"/>
              <a:ext cx="73080" cy="144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21600" h="216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1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644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645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647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648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650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651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4:56Z</dcterms:modified>
  <cp:revision>3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